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1ED4-5E51-4B42-A3BB-745F9595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37BA-41A5-4E79-9D3B-28E4F285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F57F-8620-4C8C-A25C-5B6F6B58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6674-292B-4300-8A40-8F1E61DE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5245-6453-4441-A566-19586A66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ABA3-06B3-4BE2-9D7D-D2649C3B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1311-5781-4397-B249-D127C1B3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2CAA-E279-4CCB-B352-99A20059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9510-C17E-4A07-B6FD-C1C94AAB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A801-A318-4AC1-9EE0-281B8102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05FA-1D95-401A-B8F7-B6C36DB5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9D7C-DD72-4E4D-B43B-DD52FC29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CC4E-5895-41D9-9F49-BE8F34BD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7D85-166C-4301-B4CF-7CA8FE00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0D28-7050-4B80-9A3E-4E90435D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EFB5-7A91-419A-91D2-7E3D8D0A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60F8-3CF2-41BC-A943-819F69A4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6618-16FF-4A62-9C04-A3E98E23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66D7B-EE8E-4EC2-B5A7-7DA67A14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E9A1F-C715-456C-8BC0-BDDEC4AC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3B62C-0796-41DB-8A0D-DF348FF1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951B-EA69-47A9-9520-5B925947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0EABE-342E-45E0-832D-454DAEF1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AB60-F4A2-4137-9856-C06566DC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EB0B-D752-48C3-B19B-113C1DFCEDD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F1D4-CCF3-41D3-A8A8-AFD61541130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onors English III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Cruc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ct II Review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the beginning of the act, why does Elizabeth want John to go to Sale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uty has Mary Warren been performing in Sale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gift does Mary Warren give to Elizabet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ording to Elizabeth, what is Abigail’s true objective in cour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questions does Hale ask John and Elizabeth to test their fait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ct II Review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has Rebecca Nurse been jail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charges against Martha Core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found in the poppet that supposedly proves Elizabeth’s guil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John want Mary to testif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6:07:12Z</dcterms:created>
  <dc:creator>wcpss</dc:creator>
  <dc:description/>
  <dc:language>en-US</dc:language>
  <cp:lastModifiedBy> James Watson</cp:lastModifiedBy>
  <dcterms:modified xsi:type="dcterms:W3CDTF">2009-09-02T02:24:18Z</dcterms:modified>
  <cp:revision>8</cp:revision>
  <dc:subject/>
  <dc:title>Honors English III</dc:title>
</cp:coreProperties>
</file>